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583-9690-4186-B7B7-9384E519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060-159F-480E-BF29-20F70277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BBF28-99C5-4F25-8F76-45C37EEE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EA358-DD0B-45A1-A448-46BB1492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349C7-1D94-4CC4-B3EF-AF01EC7C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9909-EDC4-4B70-AD74-737E3180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F2708-0024-4BE8-8AF6-25F1F79C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ED358-EEAD-4493-991D-74D63DE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56006-4DFF-44CD-8C1F-7895537A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4981-5A8C-40ED-B61F-251F9D96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5D323-D45C-484A-B66C-0E58D7E9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97F76-F98C-46A7-8FC5-148CEC74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B97-372A-4820-89D2-B489517B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948C1-6CB2-4A5D-A4B7-0921C84C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79F69-3980-4B4B-BAEF-412EDC61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B3EDE-11CF-4221-A986-D19583B6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7ACB5-478D-46BC-B396-2B0D3B62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6D0F6-FD79-4BFD-8811-3272D33D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BE347-D364-48DF-91C5-586F87B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5D7F8-522B-4BAF-AB01-7693FBE5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5D482-FD73-487C-A961-97C95BFD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642F4-E24D-4170-9C36-94CC497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64C0F-B4F6-4960-B509-02FFF35B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D0D-3406-457A-BE82-5D9F91F1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12E33-6E4A-4F0C-A20A-A0334362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0657-C559-41B9-97A7-480A9DCC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BBCD8-BA28-48C3-BACC-C5164E16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508BB-B74B-4287-A820-66374BD3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0350D-C0FE-46AE-BAD6-D9E1200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313E-4991-405A-9286-5F06113B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7DC6A-7A87-4E7F-9A12-33CCF19D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CA0F2-DBA7-4338-A1E9-C49DAE4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19D2B-6673-42D3-865D-5BEE1E0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39E1C-2D7D-49C3-86D5-7FF5D93F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B931-EA4D-4D86-8D48-54C6CA63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72056-BC6B-4CB2-B61A-6260A23E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EC33-811D-4913-B40C-5DD3A559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92C99-AA7A-48F1-8FBA-2A0907D9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0326A-B544-45C5-A711-4C45A809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FD173D-9A70-45AB-A4E5-5823046D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DC5C5-6E44-427A-9C05-1B3034A4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7C0D4-6064-4D42-94AF-450D0688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03F7A-97D8-462F-A095-8EB1A019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61A03-EE17-4FCF-9784-912BD178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E17E2-7289-47A7-9E5E-563582EC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8128-FCFD-4A0C-A235-8BA6315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9FC8B-C01B-47BC-9841-77515B2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8F744-D72B-4E12-983C-43561AB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F64EF-F873-4BEF-B4AB-05A9F7BD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2263D-838B-4D82-B153-BB018FA5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C8DCC-C7E3-4333-B3AB-BC9B39E2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032F9-26EB-46CE-BAB7-CD2D0278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E8C71-3696-4AC3-8E77-B333DDC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71A73-31C6-495D-A74F-F71797DE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45420-C208-473D-A8DB-C105C407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5C8D9-4029-4704-902C-CC9EB98D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2480-C42A-487E-9D94-A18C4E5F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5FB21-CE05-4A9D-8AE1-25D8C0A7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C2108-8D13-478D-9955-A6A59DB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6E4F2-912D-4BAE-ABA2-A898F52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8AFCB-562C-4C8B-B2C3-EDA722D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B982D-9ED4-4A05-A04D-65F15B1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E8A6C-A1AC-4266-BCA4-1E1373E2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91395-3B7D-400A-9B21-E4386F28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B5CF1-C6F5-4452-92C5-7F351AE3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CB879-A248-4216-928E-950780E5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3086F1-D0CE-4EB9-8811-5D320379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E28D-9CDD-4C37-8168-974B5F6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EDBB8-2854-491B-AD58-2AD7836B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792336-9AF9-4D53-8E47-12A981A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AA54E-E7A2-443A-9266-41DA411D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E1EED-5FBF-460E-BFCE-D97504E4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93105-9211-4D85-A808-F03192BF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88BDA-EB98-45A1-B17A-299EF00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4A686-C28A-4A2F-B1E5-0769CD23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07290-12AE-4708-BF28-3832C049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99AB1-F2DF-4B82-BC46-DE08A927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1C9AFE-4434-45AF-AB70-B4563768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CC5C-2F70-432E-B5E1-5860272C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09B19-40A7-4822-8A9D-873AD237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96147A-D737-4BE5-8DA2-6FE0507B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38471E-86BA-4C11-8AD5-AD848314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5ECE6-C350-4F0E-8DA6-2757BC5A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DBA96-F4D7-4681-8BE5-735F088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828294-945C-44E2-A5A0-684715C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CE8C14-6ED6-4BFD-8565-D71C5621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C5DD3-1733-4EF5-9983-C94FEF1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CA95B-79C8-4405-A9C9-696F4B18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DC8EED-9F20-4144-A65B-CECD0011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C776-CB37-4F3A-9D43-ADA37F7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27DE2-7212-4A11-919E-A8946635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B22B2-8B4F-4484-A0DF-E5CEB023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80F3C-C3C2-40BE-B0FE-17BA4547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CE741-73E9-46F9-9E54-F084D1EA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0F6C20-DE9F-44B6-8A28-77CA9324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5F359-7300-4734-A6C5-6B0BE957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51408-670D-4C54-875D-13B56578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C2C0B-3A61-4CB4-9CD8-D70A7B90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3D7367-458F-4816-BF82-6823F54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84CD76-77CD-45FB-BE81-A75DFDA6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AB9-26AC-465F-97E7-CC28B983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A4F5C-8F00-4B6D-A01F-819F89F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FAE75-3BD6-47FD-8327-75631A33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3451D-F22A-4EE5-8CDB-7B6CB6CE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C635F-B7EE-4E61-854F-8279CDD1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1E725-8036-4CD4-9A9F-E8762592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C9F34-E7D8-4E7B-8116-9A2925F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7AE0F-A634-4783-A44A-3533FA75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3F5BE-C91F-4707-B7BA-07F642BA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E9EBE-4673-4A17-A7DE-681D9C50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EBE9F-0186-4CDB-8AED-7C01B529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510-724D-43CC-B69D-BE072454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2571-BFFC-44BF-93BB-CBFCE17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6FC767-D7BF-452F-BFEA-A8982EE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CC488D-4446-41F7-90EB-18BCA6EA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423CA8-7BF7-4F62-8B77-C6B648DB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CA888-0E33-4C74-A732-79A2279F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70F5F7-A176-4C3B-A7E3-DB050426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92370-B332-49DC-B8BE-17A14E98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5671F-EF81-4C59-A07A-9EAFD602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8CB66-D09E-4458-8777-CF7873C0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4C1AE-6399-446B-ABCE-EC3A173A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72BE6-81C8-4523-ACDC-47A869C3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55C4-360C-46EE-BFBD-FA8D98C5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0B5BDF-A639-40E0-A54E-F89A96FE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50664-D7DC-471C-998D-C93B316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3CF38-B1C3-4869-9F48-C7BD8A93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7C496-99E3-4631-B65A-AAB5C7CA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39E4E-4A18-4E2E-BD05-34DD168C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573C64-76A4-43C9-B1A4-96B30B91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3A0EF-D95E-4B8F-B521-016C4BF6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F9BB54-CD75-46DA-B38C-C781CC90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45DA6-DD9B-4ABD-8A6C-B429188B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992A5-1A91-4F2D-A446-C7C5E787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C2E2-B0B2-4EA0-BDB5-8E6BBA0B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20176-2072-4071-91A0-CA67865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F2A0A-48C3-4FDF-9D5D-76BFDF0F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D72732-62F8-4FB2-94FB-2567CAEA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98AAA-37C3-4C88-A68B-4A95754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1BE34-08C4-4FA2-99B9-6EEC4E6C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3164B-9B42-4F09-88CC-BE87636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76188B-6912-4312-B27C-35277B54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43DC2-8AFB-4864-878D-A5C6ED4F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5EDE26-46B6-4B90-A0EA-FD15EFFE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827BA5-726A-4122-88B6-4A5C3BC2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259-E777-412C-94EA-D83E6881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583AE-18A3-438A-ACAD-BD2C41A0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5629E-F7E3-4125-AA3B-1C766819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82A6A-602B-4C8E-BB78-D810DE1F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7E54A-B382-46E2-844C-5C290D56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0C57F-EEC2-4015-960C-66A33F48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4C7F22-2905-4CA0-93B8-04CCF10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4C440-6331-4792-A820-AD82213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00CFF7-2172-4A01-AE5B-3CF58009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FDE157-F6AC-4328-BF1A-9BDB7EE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32BFD-47AE-46E7-95ED-72AD45FB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4435-39FE-4DA9-BADE-C50832C3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EB9AB-E63B-4B07-B2A2-9E7FAAA5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05000B-867F-4229-8B21-BE1C0D3D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EE6D22-51BE-48C2-B614-0DA9321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76689-53FB-481D-8C37-ECEFDA07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2EE825-E600-448E-A5A2-55FC025E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5C2959-54DB-43EB-9A54-104C0882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06C3D4-F7D5-4E1A-B851-1EDD6786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22843-D36F-4CF7-A3B5-50751B83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15C82-C3AD-4DCF-8FD3-9821B77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93D0A-E69F-48C6-9C4B-5E74A5A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2F8A-0C2C-4BF5-8487-71B3072C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03A5A-6E35-4307-90F2-1739D0B8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2D8B7B-7EFF-4A03-AF25-97914293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E83A0-D682-4B66-A049-545DFDAA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F1D1DF-98F1-4D51-A02F-BA93D3DA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365BF9-D4C6-40D2-B085-8DB6DA65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443FA6-E0E9-4C96-B712-CBC377D4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66A353-73CB-4A4B-9A83-FB114B04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042571-02A3-4B6C-8487-EB5ADE81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A1BCA-833A-4A45-8FF1-F3050A76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809A77-AD43-45FC-A560-CFB491AC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0953-2FD2-476B-BC65-04642249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34FEB-ABB8-4E42-94C6-747038F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ECFDDA-6562-4816-B319-81BBD1A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31478B-5CBC-4C8E-A0A7-4449A6D1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0E06B4-5C78-476A-87B3-4E3517B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17E88-A1D8-4D49-9E5B-522493B7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C441B4-7594-48A1-A0EA-DB4CC688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E80E17-B8A3-477A-8E61-860E79C1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554E2-71AF-4552-A069-4E26CABD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95F9E3-9024-4721-8631-D7863F1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DC767B-C209-47F0-BC0E-3DE42402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202D-84CE-4701-B094-AF23767A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5CC716-B85C-47C5-AB34-B7417040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04180B-E12C-485B-B42D-491D039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ACF3AC-60B7-4ECE-9D61-24DF9AA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2613CB-FD31-4D46-B087-BE270D88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814DA0-017E-4B60-99D8-8FF99FA7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73A42F-F13A-44A8-8B96-BB04A4F6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AB72B6-DC51-402A-BB90-88DCFF6F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D399-577E-447C-BA35-DE4BC46C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AFB0-7920-45E1-8F74-5F7EBFD9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AA6-F953-40F9-A63A-7DC6B452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168F7-4181-424F-ABC9-219B0D18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9170-2595-4541-94CE-8DA9252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BF0E-DD2D-409E-90CB-B34808F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78972-6366-4FA7-997D-2CC01B1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05BB-0631-4D0A-8E04-66EA5E2B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BBD5-41E3-4E2B-9EE5-F79D8BE4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0B85-7256-4DA7-A82A-52618346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0E6A-E6D5-4423-B73D-ABCCC8EB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A806-9159-468B-A02D-909ABA87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4E0F-6CC6-4CBC-BB96-468940E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3B5-1BB6-414E-97DA-6FBBE7D2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6A83-5A31-470B-92CB-BB26394B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D05D7-8D10-48D6-9007-E1F8569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5E95-DD99-400B-B8D4-90CA0EA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7F429-D2CC-497C-951B-86887D37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C970D-9664-449B-90C3-0AAD1EC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0F36D-B01B-48C8-A2CB-B46219E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65C2-B25E-4364-AF2C-DBBAE533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FD3C-C02B-4178-B501-E417915D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D450-4303-43F2-9B80-203F467B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A7C90-CF89-40E8-8ED0-2D354D08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653-A794-4253-9979-8C7E55D1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14EB2-B079-4C3E-BE26-9FA7B50C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7CFA-F7AF-4F79-AE45-C01A2E68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0DF9-FAE0-40AB-BECB-C7C9D3C3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A0DD-1103-444E-A97A-ED271B8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9A6B-61C2-4B33-BF59-9DAF1E97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295A2-3A20-45F4-886A-DBB93B3B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715CA-07EA-49D5-9C15-A893B5F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8F0B-D298-47B9-86DE-E4A5E727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E4632-96C3-45A8-A325-F3F48977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2C28-E4AE-4458-B4B4-6CEAA9D4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A6A-477E-4D11-AD84-8E4069A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3CDB-221F-47BE-BB76-D2E1E2EB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AB0A-5DB0-4B2B-BF67-7A490ED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95C0-CA40-43FB-B4BF-296C4215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D33FE-3294-47C7-9E0D-EA313D56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C7428-6940-4497-8F81-1C1DA383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F5730-0BA0-447F-8CEF-2FB027A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AFFA-C4AB-4055-BAFA-7DBF340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CA29F-50DA-4E04-916E-DB114A0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BCB6B-A8D1-469F-AF79-CC30406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2124-73BD-4DA0-94DD-C09D65B9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1D5-CE32-42C9-BC1B-08435066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E3195-207B-4793-962C-0ADDF79F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B348-F123-45C0-B111-05364C60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8DB4-C350-49F4-AEC6-F849A630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A9F05-12B5-4EEA-8F83-E310BD8F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0609E-D17E-4A97-A7A0-634C159C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87943-0D59-41B5-924A-3A24BCE5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D241B-D544-4DAD-83DB-C292CF54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DABD5-8B98-488C-B8FF-B8AD1842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94FC-D8A1-4722-93AC-774B82AB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7FC2B-66DC-4C6B-9EEA-B94F0C51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648-1447-43EF-8AA2-E37AFB9A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130EB-8F97-460C-B534-8D8E5EF7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850EF-F18B-40C3-9351-6F169F0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44BE-A1C1-433F-A1F1-4B890F1D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20EB2-62EA-463D-90B7-8980AE06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E99BC-BFED-4991-A543-B8907266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E7860-4C89-4897-8037-6AC1AD2B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749F9-EC52-408B-9C81-3E92D3A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49C5-41A1-4D0F-A9ED-03021AF0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B91A6-FFF1-41F6-9C3D-28E2CA51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A06E-140B-4DC4-9FAF-D3B9161E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C90-E71F-44F0-ADA3-BC7AA422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9177-0BEC-4DD0-AB3A-A9CD0DCD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9A9D-490B-4CA5-900E-D3A973DA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1ED8-1EEE-4041-B88D-FE25B579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ED26E-AB85-4655-AFC3-A5DFB58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1C5D7-751F-48EE-8877-5066558B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BE671-D14D-4E07-91D7-FB8FFAFB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FC96E-C4FE-413A-921B-FA99DE3C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81967-F5B9-4B61-90A6-96684205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58F4E-2064-4DE6-BA60-C3EC4E20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10083-245F-4407-8F5F-9D4D8159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F135-152D-4D67-9310-D2B3EB0927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391D-BDB9-44FF-9FFB-69F01EF860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9127-8A08-4505-8560-D2FE69D8E7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图片 5" descr=""/>
          <p:cNvPicPr/>
          <p:nvPr/>
        </p:nvPicPr>
        <p:blipFill>
          <a:blip r:embed="rId2"/>
          <a:stretch/>
        </p:blipFill>
        <p:spPr>
          <a:xfrm>
            <a:off x="5622840" y="2193840"/>
            <a:ext cx="3292560" cy="2470320"/>
          </a:xfrm>
          <a:prstGeom prst="rect">
            <a:avLst/>
          </a:prstGeom>
          <a:ln w="0">
            <a:noFill/>
          </a:ln>
        </p:spPr>
      </p:pic>
      <p:sp>
        <p:nvSpPr>
          <p:cNvPr id="433" name="任意多边形 6"/>
          <p:cNvSpPr/>
          <p:nvPr/>
        </p:nvSpPr>
        <p:spPr>
          <a:xfrm flipH="1">
            <a:off x="0" y="0"/>
            <a:ext cx="5484960" cy="6858000"/>
          </a:xfrm>
          <a:custGeom>
            <a:avLst/>
            <a:gdLst/>
            <a:ahLst/>
            <a:rect l="l" t="t" r="r" b="b"/>
            <a:pathLst>
              <a:path w="7314000" h="6858000">
                <a:moveTo>
                  <a:pt x="1714500" y="0"/>
                </a:moveTo>
                <a:lnTo>
                  <a:pt x="7314000" y="0"/>
                </a:lnTo>
                <a:lnTo>
                  <a:pt x="7314000" y="6858000"/>
                </a:lnTo>
                <a:lnTo>
                  <a:pt x="0" y="6858000"/>
                </a:lnTo>
                <a:lnTo>
                  <a:pt x="1714500" y="0"/>
                </a:lnTo>
                <a:close/>
              </a:path>
            </a:pathLst>
          </a:cu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3AB8-832E-4304-8515-CC8F8392E2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E77-6991-4A7C-8530-B1DBF754E2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8247-B1AB-4A8E-B6D0-293B9BD484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0FE3-73DC-421F-A224-F10C358B3F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3BD-C428-4C9C-BE4B-83F9EAF26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CAE-3EA8-4C2B-860E-9F1B5D9895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04D0-1025-4A3C-9664-927FD2BF47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2638-4FE7-4DA0-B3F3-E5432EABA4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3EC1-5AFD-4236-A7A2-280DAFF8C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FCA-2BFA-409F-AE0C-B9AF8479E0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2" name="直接连接符 8"/>
          <p:cNvSpPr/>
          <p:nvPr/>
        </p:nvSpPr>
        <p:spPr>
          <a:xfrm>
            <a:off x="4206960" y="3930480"/>
            <a:ext cx="730080" cy="0"/>
          </a:xfrm>
          <a:prstGeom prst="line">
            <a:avLst/>
          </a:prstGeom>
          <a:ln w="63360">
            <a:solidFill>
              <a:srgbClr val="3c7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155D-DE5E-44D4-BC77-B0A7BAC89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0A6E-B4F7-4B2E-8ABF-39ABD7881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2F8-0B63-41F2-99DE-59BE2282C5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562D-F421-4D2D-8650-7254EC6FB1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4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E1E-2F17-4BB2-B535-B5EAB42752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1D4A-7D8E-40AB-AA86-647446FE9C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4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图片 6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298D-7056-4EED-ADB8-842432328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4ED-2AFD-4146-864B-C32C1D3494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A795-FE6C-4F74-904A-2A8FEC4740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4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0EB9-20A6-488F-AD2D-C29282CBC1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EC54-AEB3-4343-8ED5-885B27724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8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C90A-694A-4FFC-88E9-9228EE5F95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17D9-CBA1-4698-A784-67929CD2E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6" descr=""/>
          <p:cNvPicPr/>
          <p:nvPr/>
        </p:nvPicPr>
        <p:blipFill>
          <a:blip r:embed="rId2"/>
          <a:stretch/>
        </p:blipFill>
        <p:spPr>
          <a:xfrm>
            <a:off x="8604360" y="637236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8" descr=""/>
          <p:cNvPicPr/>
          <p:nvPr/>
        </p:nvPicPr>
        <p:blipFill>
          <a:blip r:embed="rId3"/>
          <a:stretch/>
        </p:blipFill>
        <p:spPr>
          <a:xfrm>
            <a:off x="0" y="637236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2572-E861-4171-B72A-F48D6D352B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CE49-AA4A-4948-A7FC-49152A73E5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4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eaecef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4" name="图片 6" descr=""/>
          <p:cNvPicPr/>
          <p:nvPr/>
        </p:nvPicPr>
        <p:blipFill>
          <a:blip r:embed="rId2"/>
          <a:stretch/>
        </p:blipFill>
        <p:spPr>
          <a:xfrm>
            <a:off x="7929720" y="5765760"/>
            <a:ext cx="1214280" cy="10922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8" descr=""/>
          <p:cNvPicPr/>
          <p:nvPr/>
        </p:nvPicPr>
        <p:blipFill>
          <a:blip r:embed="rId3"/>
          <a:stretch/>
        </p:blipFill>
        <p:spPr>
          <a:xfrm>
            <a:off x="0" y="5765760"/>
            <a:ext cx="1214280" cy="10922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3A06-928A-4107-B57A-8CF5A204E2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6E3E-FC81-4B96-B855-5CCE3EF6E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FA7-ADB5-4F56-86F9-ECA7FB992D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BC89-170A-4542-B22A-26863CDAB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246E-3F9F-4DB8-A6A2-ADC0CC5DB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784-0E41-4402-828C-3285B4A002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>
            <a:off x="2314440" y="4255920"/>
            <a:ext cx="451008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296F-7969-4B20-AA26-EFA3BC7A7B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47EA-DDBA-4EDF-A7CD-B049945451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F7F9-8634-405B-A5A6-465FD28B48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AA81-8487-4450-B5FA-0C4B14839F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5" descr=""/>
          <p:cNvPicPr/>
          <p:nvPr/>
        </p:nvPicPr>
        <p:blipFill>
          <a:blip r:embed="rId2"/>
          <a:stretch/>
        </p:blipFill>
        <p:spPr>
          <a:xfrm>
            <a:off x="0" y="1397160"/>
            <a:ext cx="270972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6434280" y="1397160"/>
            <a:ext cx="270972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矩形 8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bfbfc"/>
          </a:solidFill>
          <a:ln w="12600">
            <a:solidFill>
              <a:srgbClr val="29568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25D-EEE9-49E5-A0DC-6978394EBB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A84D-20DA-4C1E-8636-6954DBD85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b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3c78b9"/>
          </a:solidFill>
          <a:ln w="12600">
            <a:solidFill>
              <a:srgbClr val="295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5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4856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485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C594-8932-4701-AC40-E7B3015E1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1740-FAC7-41B4-B991-D995B00E60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1671480" y="1698480"/>
            <a:ext cx="5801040" cy="138132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2" descr=""/>
          <p:cNvPicPr/>
          <p:nvPr/>
        </p:nvPicPr>
        <p:blipFill>
          <a:blip r:embed="rId2"/>
          <a:stretch/>
        </p:blipFill>
        <p:spPr>
          <a:xfrm>
            <a:off x="317520" y="3637080"/>
            <a:ext cx="82216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1"/>
          <a:stretch/>
        </p:blipFill>
        <p:spPr>
          <a:xfrm>
            <a:off x="547560" y="144360"/>
            <a:ext cx="8242560" cy="65674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1187280" y="4710240"/>
            <a:ext cx="3889440" cy="4474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1289160" y="5445000"/>
            <a:ext cx="38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1116000" y="61801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204840" y="1023840"/>
            <a:ext cx="8734320" cy="4810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2"/>
          <a:stretch/>
        </p:blipFill>
        <p:spPr>
          <a:xfrm>
            <a:off x="6804000" y="3284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3"/>
          <a:stretch/>
        </p:blipFill>
        <p:spPr>
          <a:xfrm>
            <a:off x="1908000" y="393372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4"/>
          <a:stretch/>
        </p:blipFill>
        <p:spPr>
          <a:xfrm>
            <a:off x="3995640" y="4581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5"/>
          <a:stretch/>
        </p:blipFill>
        <p:spPr>
          <a:xfrm>
            <a:off x="7093080" y="4581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6"/>
          <a:stretch/>
        </p:blipFill>
        <p:spPr>
          <a:xfrm>
            <a:off x="2556000" y="522936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95440" y="1033560"/>
            <a:ext cx="7953120" cy="4790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6948360" y="12114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6372360" y="242100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773600" y="213372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2138400" y="2421000"/>
            <a:ext cx="144000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508720" y="328464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4067280" y="393372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2987640" y="458136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1908000" y="520056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42960" y="1238400"/>
            <a:ext cx="7858080" cy="4381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2519280" cy="2089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2916360" y="213372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519280" cy="28814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7236000" y="2133720"/>
            <a:ext cx="1584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700200" y="1390680"/>
            <a:ext cx="7743600" cy="40766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1187280" y="2205000"/>
            <a:ext cx="2664000" cy="251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2527200" y="1700280"/>
            <a:ext cx="8924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5465880" y="2176560"/>
            <a:ext cx="2663640" cy="3124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6805440" y="1671480"/>
            <a:ext cx="1582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714240" y="1442880"/>
            <a:ext cx="7715520" cy="39722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232000" cy="30970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2627280" y="157176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5076720" y="2276640"/>
            <a:ext cx="3024360" cy="3097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6946920" y="1571760"/>
            <a:ext cx="158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314280" y="1562040"/>
            <a:ext cx="8515440" cy="37339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2987640" y="4465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140360" y="4508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5248440" y="4508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6443640" y="44658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7553160" y="450864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262080" y="1333440"/>
            <a:ext cx="8619840" cy="4191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1042920" y="461016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190600" y="1881720"/>
            <a:ext cx="476280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5400" spc="-1" strike="noStrike">
              <a:solidFill>
                <a:srgbClr val="262626"/>
              </a:solidFill>
              <a:latin typeface="Arial"/>
              <a:ea typeface="汉仪旗黑-85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2190600" y="3754080"/>
            <a:ext cx="47628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2235240" y="4385880"/>
            <a:ext cx="14875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5440320" y="4385880"/>
            <a:ext cx="14889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图片 1" descr=""/>
          <p:cNvPicPr/>
          <p:nvPr/>
        </p:nvPicPr>
        <p:blipFill>
          <a:blip r:embed="rId1"/>
          <a:stretch/>
        </p:blipFill>
        <p:spPr>
          <a:xfrm>
            <a:off x="347760" y="1166760"/>
            <a:ext cx="8448480" cy="45244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2"/>
          <a:stretch/>
        </p:blipFill>
        <p:spPr>
          <a:xfrm>
            <a:off x="1042920" y="437976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3"/>
          <a:stretch/>
        </p:blipFill>
        <p:spPr>
          <a:xfrm>
            <a:off x="1116000" y="5157720"/>
            <a:ext cx="590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3:2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